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31A-B8A6-45F9-A920-876C4771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85E-D961-45D2-A723-65BAE8A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667-0F4C-4492-BF81-51563CEA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F01-BE97-4F08-B357-CB7F828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0E5-FDAD-4339-AFE9-4DAEDAB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94A-8E01-4CE7-9755-B4A878FF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453-58FE-4852-A8D5-CDCE7C5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E6E-C7F0-429D-9099-293450C1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F3A-EFC6-4BA5-A629-1690093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239-9945-4C5D-B9A7-4C81860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2A8-5A09-434F-A804-B85B256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6AD-75D1-47CB-9FD4-5DEE1DAA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F2B-4D4D-4CB9-9A4A-2EA0CCA8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19393200">
            <a:off x="5562720" y="4495320"/>
            <a:ext cx="310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Y 1 GET 1 FREE! 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H YEAH!!!!!   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21448800">
            <a:off x="761760" y="380520"/>
            <a:ext cx="771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ncy Beads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3200400"/>
            <a:ext cx="3276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$4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00:41Z</dcterms:created>
  <dc:creator>SAISD</dc:creator>
  <dc:description/>
  <dc:language>en-US</dc:language>
  <cp:lastModifiedBy>SAISD</cp:lastModifiedBy>
  <dcterms:modified xsi:type="dcterms:W3CDTF">2010-04-14T15:30:26Z</dcterms:modified>
  <cp:revision>2</cp:revision>
  <dc:subject/>
  <dc:title> </dc:title>
</cp:coreProperties>
</file>